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80910-B1AE-4996-8E39-5DDBBB6E7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57F39-56E9-4070-B724-7062E9F46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A05C2-DE7B-411B-B7A9-695E1A525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55043-E371-440A-AE65-2A1E2BE90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7F92F-586A-4A3E-ACCD-CF25D6E53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7A391-26C9-413B-B10D-D648345FF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24916-99C8-4448-A5E4-08F81D5CC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ED103-1087-47E8-A476-FAA8C393F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50056-D911-4D21-92DE-F17FA91BE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E959-621A-4B9A-8243-31496C059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1713E-8B21-454B-B27D-0B955F907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B9A6-65CC-45BA-8D92-B72A89556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E305-151C-4F6C-B52A-09329E1A7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42720" y="0"/>
            <a:ext cx="61722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Pages Project</a:t>
            </a:r>
            <a:endParaRPr b="0" lang="en-US" sz="1200" spc="-1" strike="noStrike">
              <a:solidFill>
                <a:srgbClr val="000000"/>
              </a:solidFill>
              <a:latin typeface="Arial"/>
            </a:endParaRPr>
          </a:p>
        </p:txBody>
      </p:sp>
      <p:graphicFrame>
        <p:nvGraphicFramePr>
          <p:cNvPr id="42" name=""/>
          <p:cNvGraphicFramePr/>
          <p:nvPr/>
        </p:nvGraphicFramePr>
        <p:xfrm>
          <a:off x="343080" y="609480"/>
          <a:ext cx="6172200" cy="8045640"/>
        </p:xfrm>
        <a:graphic>
          <a:graphicData uri="http://schemas.openxmlformats.org/drawingml/2006/table">
            <a:tbl>
              <a:tblPr/>
              <a:tblGrid>
                <a:gridCol w="1234800"/>
                <a:gridCol w="1347840"/>
                <a:gridCol w="1120680"/>
                <a:gridCol w="1233720"/>
                <a:gridCol w="1235160"/>
              </a:tblGrid>
              <a:tr h="275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ca2"/>
                    </a:solidFill>
                  </a:tcPr>
                </a:tc>
              </a:tr>
              <a:tr h="634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s / Tex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tles are written clearly and are easy to read from a distanc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tles are written clearly and are easy to read close-up.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tles are not written clearly and are hard to read from a distanc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tles are hard to read, even when the reader is close.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Organization)</a:t>
                      </a: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troduction is inviting, states the main topic and previews the structure of the pape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troduction clearly states the main topic and previews the structure of the paper, but is not particularly inviting to the reade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troduction states the main topic, but does not adequately preview the structure of the paper nor is it particularly inviting to the reade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no clear introduction of the main topic or structure of the paper.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21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en-US" sz="1200" spc="-1" strike="noStrike">
                          <a:solidFill>
                            <a:srgbClr val="000000"/>
                          </a:solidFill>
                          <a:latin typeface="Arial"/>
                        </a:rPr>
                        <a:t>Choice</a:t>
                      </a:r>
                      <a:r>
                        <a:rPr b="1" lang="ja-JP" sz="1200" spc="-1" strike="noStrike">
                          <a:solidFill>
                            <a:srgbClr val="000000"/>
                          </a:solidFill>
                          <a:latin typeface="Arial"/>
                        </a:rPr>
                        <a:t>”</a:t>
                      </a:r>
                      <a:r>
                        <a:rPr b="1" lang="en-US" sz="1200" spc="-1" strike="noStrike">
                          <a:solidFill>
                            <a:srgbClr val="000000"/>
                          </a:solidFill>
                          <a:latin typeface="Arial"/>
                        </a:rPr>
                        <a:t> Collag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s are trimmed to an appropriate size and interesting shape and are arranged well, some in front and some behind. Care has been taken to balance the pictures across the canva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s are trimmed to an appropriate size and interesting shape and are arranged with some items in front and others behind. The canvas, however does not appear balanced.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s have been trimmed to an appropriate size and shape, but the arrangement of items is not very attractive. It appears there was not a lot of planning of the item placemen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phics are untrimmed OR of inappropriate size and/or shape. It appears little attention was given to designing the collage.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p is neat, accurate and adds to the reader's understanding of the topic.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s ke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p is accurate and adds to the reader's understanding of the topic.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s ke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p is neat and accurate and sometimes adds to the reader's understanding of the topic.  May or may not include ke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p is not accurate OR does not add to the reader's understanding of the topic.  No key inclu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6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line is neat, accurate and adds to the reader's understanding of the topic.  Contains 15 or more i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line is accurate and adds to the reader's understanding of the topic.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line is neat and accurate and sometimes adds to the reader's understanding of the topic.  Contains less than 15 i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line is not accurate and/or neat OR does not add to the reader's understanding of the topic.  Contains 10 or less i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unt of Information</a:t>
                      </a: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ix "pages" are 300 words each or mor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ix "pages" are a little less than 300 word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lf the pages are less than the required amoun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he pages are less than the required amount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 Source Docum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y source clearly relates to the main topic. It includes an explanation with several supporting detail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y source clearly relates to the main topic. It includes some supporting detail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y source  somewhat relates to the main topic but no supporting details  are give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ary source has little or nothing to do with the main topic.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 name=""/>
          <p:cNvGraphicFramePr/>
          <p:nvPr/>
        </p:nvGraphicFramePr>
        <p:xfrm>
          <a:off x="304920" y="380880"/>
          <a:ext cx="6172200" cy="8042400"/>
        </p:xfrm>
        <a:graphic>
          <a:graphicData uri="http://schemas.openxmlformats.org/drawingml/2006/table">
            <a:tbl>
              <a:tblPr/>
              <a:tblGrid>
                <a:gridCol w="1234800"/>
                <a:gridCol w="1233720"/>
                <a:gridCol w="1235160"/>
                <a:gridCol w="1233360"/>
                <a:gridCol w="1235160"/>
              </a:tblGrid>
              <a:tr h="327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ca2"/>
                    </a:solidFill>
                  </a:tcPr>
                </a:tc>
              </a:tr>
              <a:tr h="1320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Spac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veral of the graphics or objects used in the mini-page reflect an exceptional degree of student creativity in their creation and/or display.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r two of the graphics or objects used in the mini-page reflect student creativity in their creation and/or display.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r two graphics or objects were made or customized by the student, but the ideas were typical rather than creativ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udent did not make or customize any of the items on the mini-page.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bliograph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ources (information and graphics) are accurately documented in the desired form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ources (information and graphics) are accurately documented, but a few are not in the desired form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ources (information and graphics) are accurately documented, but many are not in the desired form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sources are not accurately documented or  incorrect </a:t>
                      </a:r>
                      <a:r>
                        <a:rPr b="0" lang="ja-JP" sz="900" spc="-1" strike="noStrike">
                          <a:solidFill>
                            <a:srgbClr val="000000"/>
                          </a:solidFill>
                          <a:latin typeface="Arial"/>
                        </a:rPr>
                        <a:t>‘</a:t>
                      </a:r>
                      <a:r>
                        <a:rPr b="0" lang="en-US" sz="900" spc="-1" strike="noStrike">
                          <a:solidFill>
                            <a:srgbClr val="000000"/>
                          </a:solidFill>
                          <a:latin typeface="Arial"/>
                        </a:rPr>
                        <a:t>mix</a:t>
                      </a:r>
                      <a:r>
                        <a:rPr b="0" lang="ja-JP" sz="900" spc="-1" strike="noStrike">
                          <a:solidFill>
                            <a:srgbClr val="000000"/>
                          </a:solidFill>
                          <a:latin typeface="Arial"/>
                        </a:rPr>
                        <a:t>’</a:t>
                      </a:r>
                      <a:r>
                        <a:rPr b="0" lang="en-US" sz="900" spc="-1" strike="noStrike">
                          <a:solidFill>
                            <a:srgbClr val="000000"/>
                          </a:solidFill>
                          <a:latin typeface="Arial"/>
                        </a:rPr>
                        <a:t> of sources used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grammatical, spelling or punctuation error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most no grammatical, spelling or punctuation error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few grammatical spelling, or punctuation error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grammatical, spelling, or punctuation error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7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ca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fca2"/>
                    </a:solidFill>
                  </a:tcPr>
                </a:tc>
              </a:tr>
              <a:tr h="811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d Elemen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includes all required elements as well as additional informatio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required elements are included on the mini-pag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but 1 of the required elements are included on the mini-pag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veral required elements were missing.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1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 of Construc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shows considerable attention to construction. The items are neatly trimmed. All items are carefully and securely attached to the backing. There are no stray marks, smudges or glue stains. Nothing is hanging over the edg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shows attention to construction. The items are neatly trimmed. All items are carefully and securely attached to the backing. A few barely noticeable stray marks, smudges or glue stains are present. Nothing is hanging over the edg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shows some attention to construction. Most items are neatly trimmed. All items are securely attached to the backing. A few barely noticeable stray marks, smudges or glue stains are present. Nothing is hanging over the edg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ni-page was put together sloppily. Items appear to be just "slapped on". Pieces may be loose or hanging over the edges. Smudges, stains, rips, uneven edges, and/or stray marks are evident.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cus on Topic (Cont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one clear, well-focused topic. Main idea stands out and is supported by detailed informatio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 idea is clear but the supporting information is general.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 idea is somewhat clear but there is a need for more supporting informatio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in idea is not clear. There is a seemingly random collection of information.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5:54:20Z</dcterms:created>
  <dc:creator>Carol Ralph</dc:creator>
  <dc:description/>
  <dc:language>en-US</dc:language>
  <cp:lastModifiedBy>End User</cp:lastModifiedBy>
  <dcterms:modified xsi:type="dcterms:W3CDTF">2013-12-16T00:08:32Z</dcterms:modified>
  <cp:revision>10</cp:revision>
  <dc:subject/>
  <dc:title>Mini-Pages Project</dc:title>
</cp:coreProperties>
</file>